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D502-19B2-47BC-85D2-FDBD20064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1340-003C-4A99-AAE2-C4C9B563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228C-97DA-4828-85B4-9210C8881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4AD9-C5FA-4511-B3A7-1107E798B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DD9E-25FC-4A2A-80BD-9B1598DEB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4EF4-26C6-4C28-92FB-1BA9969D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D7E3-D521-47C5-935B-73BC0945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A7F8-4DA9-40E2-8C37-7C7B905C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DFC9-9703-4001-B894-2B1E64CE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549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79427-804D-4FAE-AD8D-F5A30DA7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9CDB-C312-4BA5-A797-AC494B33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4A8E-D227-4722-B700-1D7951A3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1DC79-F92D-4507-9D0D-EFCABDB1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01F4-A718-4BE5-B66E-072146A5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A768-9E39-4169-9879-9F3F2448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E184-5474-43FF-B0E3-4AB76595F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8874-C974-4CE1-B4BE-67188D49D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37EB-CE96-430A-8349-A28B763A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F8F7-400B-42E1-B12D-FC2D010F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98B3-3726-4A44-819E-7CB34DEE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49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D4F3-519E-4EA2-90F7-2BEC9BDE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8DC0-B1C0-4940-AF48-1CECC46C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78ED-0CD6-4AB5-9B76-C3204C77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C7CF-A92D-4E29-B06F-E07CAFBF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L01_4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D685-443C-4741-8762-79B8F740D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L01_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卫生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卫生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8B87-AAD7-4641-A142-A95DE2B58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CC2540 CDC </a:t>
            </a:r>
            <a:r>
              <a:rPr b="1" lang="zh-CN" sz="3600" spc="-1" strike="noStrike">
                <a:solidFill>
                  <a:srgbClr val="000000"/>
                </a:solidFill>
                <a:latin typeface="卫生"/>
              </a:rPr>
              <a:t>移植</a:t>
            </a:r>
            <a:endParaRPr b="1" lang="en-US" sz="3600" spc="-1" strike="noStrike">
              <a:solidFill>
                <a:srgbClr val="000000"/>
              </a:solidFill>
              <a:latin typeface="卫生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基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C254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设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HostTestRelease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下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USB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12720" y="1989000"/>
            <a:ext cx="2722680" cy="2886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068720" y="2709720"/>
            <a:ext cx="279864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CC2540 USB Libaray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库函数文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68360" y="1413000"/>
          <a:ext cx="8229600" cy="5038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库文件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说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usb_suspend.h  usb_suspend.c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usb_standard_request.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usb_standard_request.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usb_interrupt.h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usb_interrupt.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usb_board_cfg.h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usb_reg.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usb_descriptor.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usb_descriptor_parser.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usb_descriptor_parser.c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usb_framework.c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usb_framework.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usb_framework_structs.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CC2540 USB CDC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类操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库文件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说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usb_cdc.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USB CDC defini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usb_cdc_descriptor.s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Descriptor for USB CDC 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usb_cdc_hooks.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usb_cdc_hooks.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USB Virtual UART interfa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usb_firmware_library_headers.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Common inclusion of all USB library head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usb_firmware_library_config.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usb_firmware_library_config.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USB library configura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CC2540 USB dongle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解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5T17:49:32Z</dcterms:created>
  <dc:creator/>
  <dc:description/>
  <dc:language>en-US</dc:language>
  <cp:lastModifiedBy/>
  <cp:lastPrinted>1899-12-30T00:00:00Z</cp:lastPrinted>
  <dcterms:modified xsi:type="dcterms:W3CDTF">2013-10-15T03:44:0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